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wmf" ContentType="image/x-wmf"/>
  <Override PartName="/ppt/media/image3.wmf" ContentType="image/x-wmf"/>
  <Override PartName="/ppt/media/image4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15.wmf" ContentType="image/x-wmf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9C2F-E01F-44B6-8788-7E2D918B844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E289-C89D-479A-B4C3-F19997F01AA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15E6-3373-4E73-8F5C-9CE14216A16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0A9F-BBD0-4C1C-87EF-032EBF143C7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DF31-CEF6-4AC6-AAD6-4F255796E44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BBFC-08C0-49E6-A84F-C04857BABE4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17C5-E981-445C-827F-6121AD274F0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0974-4DA7-4279-B0E5-6176157D0AB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69CF-92FB-4478-8C40-D84D0C1823E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C915-2FBF-4352-8E5E-7E256C36BAD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A092-F644-49C4-96B6-6864A8CF301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27F1-D9E3-4ECF-9776-C0C8ABB665C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955D-9B3E-4712-AAFE-34A83D937FC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9551-86F1-422A-AED3-E31F894A84F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0DBF-97D6-4177-99CE-892D7270AA4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2401-78BF-4423-8266-E76C1F3CDDB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D922-3E6D-4EB5-AD34-F792C45C977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60F0-6B94-4833-A9BB-8671E341762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6872-2126-491E-BAE3-C3830E2520A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4706-EA00-45EE-94C0-249EFD00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9129-D41F-4E5F-A30F-4052A82A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EDB2-F284-4B0E-B012-561D8E5B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2C7C-8E45-4278-8628-DDC9D0F6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B842-FFD0-4363-942F-E37FD7B4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AB49-1F3C-41F6-85DA-543A01E6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630D-A085-46B9-895A-6BD37288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C4AE-5BF7-4BA1-AF85-49E045FF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9743-66B1-4972-BCCC-95625DF1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783E-2FEF-41ED-B6BC-5DF5A8D7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6DCB-6AEC-4AE8-B450-D1F0A184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ACFC-3872-4756-BF46-B69B4402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88F9-E00D-4DC7-8792-992E17212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719280" y="1341360"/>
            <a:ext cx="842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etanja j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an.Brzina    pripad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ni i stalna je za sve tačke na istom pravc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raleln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0"/>
          <p:cNvGraphicFramePr/>
          <p:nvPr/>
        </p:nvGraphicFramePr>
        <p:xfrm>
          <a:off x="179280" y="3500280"/>
          <a:ext cx="86756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500280"/>
                    <a:ext cx="8675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9"/>
          <p:cNvGraphicFramePr/>
          <p:nvPr/>
        </p:nvGraphicFramePr>
        <p:xfrm>
          <a:off x="4788000" y="1284120"/>
          <a:ext cx="3254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284120"/>
                    <a:ext cx="3254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12"/>
          <p:cNvGraphicFramePr/>
          <p:nvPr/>
        </p:nvGraphicFramePr>
        <p:xfrm>
          <a:off x="4356000" y="1628640"/>
          <a:ext cx="3456000" cy="345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1628640"/>
                    <a:ext cx="3456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NOSI IZMEĐ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E I RU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539640" y="2708280"/>
                <a:ext cx="8280360" cy="40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dη</m:t>
                            </m:r>
                          </m:num>
                          <m:den>
                            <m:r>
                              <m:t xml:space="preserve">dξ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num>
                          <m:den>
                            <m:r>
                              <m:t xml:space="preserve">ω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Text Box 5"/>
          <p:cNvSpPr/>
          <p:nvPr/>
        </p:nvSpPr>
        <p:spPr>
          <a:xfrm>
            <a:off x="457200" y="1219320"/>
            <a:ext cx="84582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zajedničkoj tački baza i ruleta imaju zajedničku tangentu, tj. Nalaze se u dodi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) Brzine kojom se trenutni centar pomera po jednoj i drugoj krivoj su jedn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7"/>
          <p:cNvGraphicFramePr/>
          <p:nvPr/>
        </p:nvGraphicFramePr>
        <p:xfrm>
          <a:off x="2700360" y="2205000"/>
          <a:ext cx="6192720" cy="26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205000"/>
                    <a:ext cx="619272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U I RUL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22" name="Object 2"/>
          <p:cNvGraphicFramePr/>
          <p:nvPr/>
        </p:nvGraphicFramePr>
        <p:xfrm>
          <a:off x="826920" y="2249640"/>
          <a:ext cx="244800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49640"/>
                    <a:ext cx="244800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5"/>
          <p:cNvSpPr/>
          <p:nvPr/>
        </p:nvSpPr>
        <p:spPr>
          <a:xfrm>
            <a:off x="468360" y="907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Štap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dužine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2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kreće se u ravni tako da mu kraj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klizi po krugu poluprečnika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oslanja se u tački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Odrediti bazu i ruletu štapa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700360" y="3141720"/>
            <a:ext cx="14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a baze 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u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uprečnika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627280" y="537372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uleta je k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uprečnika 2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39640" y="6093000"/>
            <a:ext cx="83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, kretanje štapa se može zameniti kotrljanjem velikog kruga po mal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971640" y="162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I nač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12"/>
          <p:cNvGraphicFramePr/>
          <p:nvPr/>
        </p:nvGraphicFramePr>
        <p:xfrm>
          <a:off x="4284720" y="1665360"/>
          <a:ext cx="4680000" cy="421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1665360"/>
                    <a:ext cx="468000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U I RUL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2"/>
              <p:cNvSpPr txBox="1"/>
              <p:nvPr/>
            </p:nvSpPr>
            <p:spPr>
              <a:xfrm>
                <a:off x="826920" y="1341360"/>
                <a:ext cx="7488360" cy="534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;  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;   {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;  </m:t>
                        </m:r>
                      </m:e>
                    </m:eqAr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den>
                    </m:f>
                    <m:r>
                      <m:rPr>
                        <m:lit/>
                        <m:nor/>
                      </m:rPr>
                      <m:t xml:space="preserve">  ;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                            ;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R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;</m:t>
                    </m:r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R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ω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num>
                                <m:den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ω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num>
                                <m:den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</m:m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-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Text Box 6"/>
          <p:cNvSpPr/>
          <p:nvPr/>
        </p:nvSpPr>
        <p:spPr>
          <a:xfrm>
            <a:off x="3203640" y="36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Isto kao pre za ba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900000" y="1052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II nači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pomoću formul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7"/>
              <p:cNvSpPr txBox="1"/>
              <p:nvPr/>
            </p:nvSpPr>
            <p:spPr>
              <a:xfrm>
                <a:off x="4643280" y="5877000"/>
                <a:ext cx="43563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z uslova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</m:eqAr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Ruleta se kotrlja bez klizanja po baz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611280" y="12682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tački C koja je u tom tremutku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trenutni centar ubrzanj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ENUTNI CENTAR UBRZ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1119240" y="1873080"/>
          <a:ext cx="5032440" cy="469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1873080"/>
                    <a:ext cx="5032440" cy="46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971640" y="1146240"/>
                <a:ext cx="1079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1" name="Object 11"/>
          <p:cNvGraphicFramePr/>
          <p:nvPr/>
        </p:nvGraphicFramePr>
        <p:xfrm>
          <a:off x="6372360" y="2924280"/>
          <a:ext cx="2401920" cy="35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2924280"/>
                    <a:ext cx="240192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3"/>
              <p:cNvSpPr txBox="1"/>
              <p:nvPr/>
            </p:nvSpPr>
            <p:spPr>
              <a:xfrm>
                <a:off x="900000" y="1700280"/>
                <a:ext cx="3178440" cy="46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ζ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**</m:t>
                            </m:r>
                          </m:lim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5" name="Object 8"/>
          <p:cNvGraphicFramePr/>
          <p:nvPr/>
        </p:nvGraphicFramePr>
        <p:xfrm>
          <a:off x="3924360" y="1700280"/>
          <a:ext cx="482436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700280"/>
                    <a:ext cx="482436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762120" y="1676520"/>
                <a:ext cx="3105000" cy="46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r>
                          <m:t xml:space="preserve">ζ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aterijalne ose tela I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aterijalne ose tela II</m:t>
                        </m:r>
                      </m:e>
                      <m:e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eqArr>
                    <m:r>
                      <m:t xml:space="preserve">P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e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e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5"/>
          <p:cNvSpPr/>
          <p:nvPr/>
        </p:nvSpPr>
        <p:spPr>
          <a:xfrm>
            <a:off x="1143000" y="56386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na ugaona brzi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kojm se telo II obrće oko tačk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143000" y="60199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enos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gaona brzi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kojm se telo I obrće oko tačke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219320" y="4876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lativna komponenta brzina koja potiče od translatornog kretanja referentne tačk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8"/>
          <p:cNvGraphicFramePr/>
          <p:nvPr/>
        </p:nvGraphicFramePr>
        <p:xfrm>
          <a:off x="4427640" y="981000"/>
          <a:ext cx="402912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981000"/>
                    <a:ext cx="40291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838080" y="1371600"/>
                <a:ext cx="7543800" cy="529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en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l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lim>
                        </m:limLow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s</m:t>
                                </m:r>
                              </m:sub>
                            </m:sSub>
                          </m:lim>
                        </m:limLow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 ;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ε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57200" y="14479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stem materijalnih tačaka predstavlja skup tačaka čiji položaj ili brzine stoje u međusobnim zavisnostima. Te zavisnosti se ostvaruju pomoću v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2209680"/>
          <a:ext cx="8534160" cy="4246560"/>
        </p:xfrm>
        <a:graphic>
          <a:graphicData uri="http://schemas.openxmlformats.org/drawingml/2006/table">
            <a:tbl>
              <a:tblPr/>
              <a:tblGrid>
                <a:gridCol w="1981080"/>
                <a:gridCol w="2057400"/>
                <a:gridCol w="2286000"/>
                <a:gridCol w="2209680"/>
              </a:tblGrid>
              <a:tr h="9601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 IZMEĐU TAČA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između koordinata tača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IC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OLONOM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između brzina tačaka koje se ne mogu integraliti po vremenu i svesti na veze između koordin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EMATIČKE (NEHOLONOM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KLER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zavise eksplicitno od vrem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zavise eksplicitno od vrem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KLER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57200" y="14479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matramo N- materijalnih tača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22"/>
          <p:cNvGraphicFramePr/>
          <p:nvPr/>
        </p:nvGraphicFramePr>
        <p:xfrm>
          <a:off x="1309680" y="1905120"/>
          <a:ext cx="667692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190512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23"/>
          <p:cNvGraphicFramePr/>
          <p:nvPr/>
        </p:nvGraphicFramePr>
        <p:xfrm>
          <a:off x="762120" y="2895480"/>
          <a:ext cx="7804080" cy="8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895480"/>
                    <a:ext cx="78040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24"/>
          <p:cNvSpPr/>
          <p:nvPr/>
        </p:nvSpPr>
        <p:spPr>
          <a:xfrm>
            <a:off x="304920" y="38862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tome koeficijenti mogu biti funk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5"/>
              <p:cNvSpPr txBox="1"/>
              <p:nvPr/>
            </p:nvSpPr>
            <p:spPr>
              <a:xfrm>
                <a:off x="762120" y="4267080"/>
                <a:ext cx="39430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539640" y="1557360"/>
                <a:ext cx="497520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: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r>
                      <m:t xml:space="preserve">⇒</m:t>
                    </m:r>
                    <m:r>
                      <m:t xml:space="preserve">ϑ</m:t>
                    </m:r>
                    <m:r>
                      <m:t xml:space="preserve">≡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ϑ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ψ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9" name="Object 10"/>
          <p:cNvGraphicFramePr/>
          <p:nvPr/>
        </p:nvGraphicFramePr>
        <p:xfrm>
          <a:off x="4932360" y="1268280"/>
          <a:ext cx="3887640" cy="35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268280"/>
                    <a:ext cx="3887640" cy="35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755640" y="1557360"/>
                <a:ext cx="6337440" cy="48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μ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eqAr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ξ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η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ξ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η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</m:mr>
                          <m:mr>
                            <m:e>
                              <m:r>
                                <m:t xml:space="preserve">ξ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+</m:t>
                              </m:r>
                              <m:r>
                                <m:t xml:space="preserve">η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</m:mr>
                        </m:m>
                      </m:e>
                    </m:d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;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ξ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η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</m:d>
                              <m:r>
                                <m:t xml:space="preserve">⋅</m:t>
                              </m:r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ξ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η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</m:d>
                              <m:r>
                                <m:t xml:space="preserve">⋅</m:t>
                              </m:r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9"/>
              <p:cNvSpPr txBox="1"/>
              <p:nvPr/>
            </p:nvSpPr>
            <p:spPr>
              <a:xfrm>
                <a:off x="755640" y="2060640"/>
                <a:ext cx="41036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Text Box 8"/>
          <p:cNvSpPr/>
          <p:nvPr/>
        </p:nvSpPr>
        <p:spPr>
          <a:xfrm>
            <a:off x="539640" y="1557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OSTORNA DESKRIP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611280" y="314172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MATERIJALNA DESKRIP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1"/>
              <p:cNvSpPr txBox="1"/>
              <p:nvPr/>
            </p:nvSpPr>
            <p:spPr>
              <a:xfrm>
                <a:off x="755640" y="3716280"/>
                <a:ext cx="7704000" cy="21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ξ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     ;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η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   ;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2" name="Object 4"/>
          <p:cNvGraphicFramePr/>
          <p:nvPr/>
        </p:nvGraphicFramePr>
        <p:xfrm>
          <a:off x="826920" y="1405080"/>
          <a:ext cx="64818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05080"/>
                    <a:ext cx="64818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5"/>
          <p:cNvSpPr/>
          <p:nvPr/>
        </p:nvSpPr>
        <p:spPr>
          <a:xfrm>
            <a:off x="1332000" y="4149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 u ravni x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332000" y="458136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 normalan vektor na xy-rav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7"/>
          <p:cNvGraphicFramePr/>
          <p:nvPr/>
        </p:nvGraphicFramePr>
        <p:xfrm>
          <a:off x="395280" y="5826240"/>
          <a:ext cx="367200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5826240"/>
                    <a:ext cx="36720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0" name="Object 7"/>
          <p:cNvGraphicFramePr/>
          <p:nvPr/>
        </p:nvGraphicFramePr>
        <p:xfrm>
          <a:off x="1187280" y="3716280"/>
          <a:ext cx="3168720" cy="103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716280"/>
                    <a:ext cx="31687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611280" y="1341360"/>
                <a:ext cx="489564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  <m:r>
                          <m:t xml:space="preserve">ΔA</m:t>
                        </m:r>
                        <m:r>
                          <m:t xml:space="preserve">'</m:t>
                        </m:r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t xml:space="preserve">≃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S</m:t>
                        </m:r>
                      </m:e>
                    </m:eqAr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B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A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SB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  /  </m:t>
                    </m:r>
                    <m:r>
                      <m:t xml:space="preserve">+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B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A'SB'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A'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BSB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Text Box 5"/>
          <p:cNvSpPr/>
          <p:nvPr/>
        </p:nvSpPr>
        <p:spPr>
          <a:xfrm>
            <a:off x="611280" y="4797360"/>
            <a:ext cx="8280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konačno pomeranje u ravni može da se predstavi kao obrtanje u ravno oko nepokretne tačke koja pripada toj ravni i zove s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centar konač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eorema važi i za beskonačno malo pomeranje – obrtanje oko trenutnog centra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8"/>
          <p:cNvGraphicFramePr/>
          <p:nvPr/>
        </p:nvGraphicFramePr>
        <p:xfrm>
          <a:off x="5111640" y="2492280"/>
          <a:ext cx="4032360" cy="245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1640" y="2492280"/>
                    <a:ext cx="4032360" cy="24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8" name="Object 6"/>
          <p:cNvGraphicFramePr/>
          <p:nvPr/>
        </p:nvGraphicFramePr>
        <p:xfrm>
          <a:off x="179280" y="5229360"/>
          <a:ext cx="295272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229360"/>
                    <a:ext cx="295272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Object 8"/>
              <p:cNvSpPr txBox="1"/>
              <p:nvPr/>
            </p:nvSpPr>
            <p:spPr>
              <a:xfrm>
                <a:off x="611280" y="2205000"/>
                <a:ext cx="5040360" cy="429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/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rPr>
                            <m:lit/>
                            <m:nor/>
                          </m:rPr>
                          <m:t xml:space="preserve"> ravansko kretanje: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Text Box 5"/>
          <p:cNvSpPr/>
          <p:nvPr/>
        </p:nvSpPr>
        <p:spPr>
          <a:xfrm>
            <a:off x="468360" y="141300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renutni centar S ima osobinu da je              u trenutku kada je ta tačka ce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916360" y="587700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centra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"/>
              <p:cNvSpPr txBox="1"/>
              <p:nvPr/>
            </p:nvSpPr>
            <p:spPr>
              <a:xfrm>
                <a:off x="4716360" y="1341360"/>
                <a:ext cx="1008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755640" y="1484280"/>
                <a:ext cx="215892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9"/>
              <p:cNvSpPr txBox="1"/>
              <p:nvPr/>
            </p:nvSpPr>
            <p:spPr>
              <a:xfrm>
                <a:off x="3059280" y="1557360"/>
                <a:ext cx="215892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e>
                                </m:groupChr>
                              </m:e>
                              <m:lim>
                                <m:r>
                                  <m:t xml:space="preserve">0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S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Text Box 6"/>
          <p:cNvSpPr/>
          <p:nvPr/>
        </p:nvSpPr>
        <p:spPr>
          <a:xfrm>
            <a:off x="539640" y="4941720"/>
            <a:ext cx="8064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ometrijsko mesto tačaka u ravni xy koje su predstavljale trenutne centre rotacije predstavljaju krivu koja se naziv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epokretna centroid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baz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ometrijsko mesto tačaka na telu koje su bile trenutni centri brzina ja kriva na telu koja se naziv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pokretna centroid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rulet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39640" y="3357720"/>
            <a:ext cx="8353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zna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položaj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2"/>
              <p:cNvSpPr txBox="1"/>
              <p:nvPr/>
            </p:nvSpPr>
            <p:spPr>
              <a:xfrm>
                <a:off x="2124000" y="3789360"/>
                <a:ext cx="5986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4"/>
              <p:cNvSpPr txBox="1"/>
              <p:nvPr/>
            </p:nvSpPr>
            <p:spPr>
              <a:xfrm>
                <a:off x="1403280" y="4221000"/>
                <a:ext cx="339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2" name="Text Box 15"/>
          <p:cNvSpPr/>
          <p:nvPr/>
        </p:nvSpPr>
        <p:spPr>
          <a:xfrm>
            <a:off x="2627280" y="41497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namo brzine svih tačaka t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7"/>
          <p:cNvGraphicFramePr/>
          <p:nvPr/>
        </p:nvGraphicFramePr>
        <p:xfrm>
          <a:off x="5580000" y="907920"/>
          <a:ext cx="302436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907920"/>
                    <a:ext cx="302436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8"/>
          <p:cNvGraphicFramePr/>
          <p:nvPr/>
        </p:nvGraphicFramePr>
        <p:xfrm>
          <a:off x="5940360" y="3357720"/>
          <a:ext cx="230508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3357720"/>
                    <a:ext cx="230508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I RU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3"/>
              <p:cNvSpPr txBox="1"/>
              <p:nvPr/>
            </p:nvSpPr>
            <p:spPr>
              <a:xfrm>
                <a:off x="250920" y="1341360"/>
                <a:ext cx="6912000" cy="467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</m:e>
                      <m:e>
                        <m:r>
                          <m:t xml:space="preserve">S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>
                                        <m:e>
                                          <m:acc>
                                            <m:accPr>
                                              <m:chr m:val="˙"/>
                                            </m:accPr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f>
                                    <m:num>
                                      <m:sSub>
                                        <m:e>
                                          <m:acc>
                                            <m:accPr>
                                              <m:chr m:val="˙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−</m:t>
                        </m:r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η</m:t>
                            </m:r>
                          </m:e>
                        </m:d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ξ</m:t>
                                </m:r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  <m:r>
                                  <m:t xml:space="preserve">=</m:t>
                                </m:r>
                                <m:f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num>
                                  <m:den>
                                    <m:r>
                                      <m:t xml:space="preserve">ω</m:t>
                                    </m:r>
                                  </m:den>
                                </m:f>
                                <m:r>
                                  <m:t xml:space="preserve">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ξ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r>
                                      <m:t xml:space="preserve">θ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r>
                                      <m:t xml:space="preserve">θ</m:t>
                                    </m:r>
                                  </m:num>
                                  <m:den>
                                    <m:r>
                                      <m:t xml:space="preserve">ω</m:t>
                                    </m:r>
                                  </m:den>
                                </m:f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Text Box 10"/>
          <p:cNvSpPr/>
          <p:nvPr/>
        </p:nvSpPr>
        <p:spPr>
          <a:xfrm>
            <a:off x="2743200" y="2209680"/>
            <a:ext cx="298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minacijom parametra vremena iz izraza za x i y dobijamo jednu jednačinu za x i y koja predstavlja jednačinu ba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7238880" y="4221000"/>
            <a:ext cx="1905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minacijom vremena dobijamo jednu zavis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među  ξ i η  i to je jednačina rule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18"/>
          <p:cNvGraphicFramePr/>
          <p:nvPr/>
        </p:nvGraphicFramePr>
        <p:xfrm>
          <a:off x="5651640" y="1700280"/>
          <a:ext cx="324000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700280"/>
                    <a:ext cx="324000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31T20:34:34Z</dcterms:modified>
  <cp:revision>378</cp:revision>
  <dc:subject/>
  <dc:title>ТЕХНИЧКА МЕХАНИКА 2</dc:title>
</cp:coreProperties>
</file>